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E4A3-4F4F-4A23-87E3-18BA1C095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9CE477D-57D3-4C27-B04C-03C01665CA14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: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33B-F443-4D85-BA15-713E2A62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5B8-1394-4FD4-83A5-E038F282A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3C96-D3C3-46DA-8B52-AF0722AA19B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02D71A8D-15B5-4957-8535-386C59718B30}" type="datetime10">
              <a:rPr b="0" lang="en-US" sz="1200" spc="-1" strike="noStrike">
                <a:solidFill>
                  <a:srgbClr val="000000"/>
                </a:solidFill>
                <a:latin typeface="Arial"/>
              </a:rPr>
              <a:t>20:2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44B-5D76-48EC-B41F-24FD240C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545-3E50-4F1E-8D3A-414F3BB8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FCE-6D2A-4EF7-8E8A-87D49747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D38-9651-4FBC-941B-75923E14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98E4-DD31-46C0-A4E8-607F3E3B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9CD-0EA8-4E86-895F-BD34EBDA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74EB-30A0-4033-8763-6C3C6BA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641F-F79E-4220-9037-AA7BB671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F735-49AA-4228-9518-1629DE64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372B-0F65-4CFF-8772-9EA2B845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B8F0-EEA1-4A5A-A087-DD3A630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9EC-BB21-4C20-ABBA-ABD8B351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8E28-99D8-43B3-A76C-C0E74B18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E46A-E671-450F-9D7F-A2BCDF8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CF0C-E6CF-4710-B370-DDC4576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DC16-504F-4D73-AA52-3B761E93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F84D-D452-44DC-B9F1-CA6DE5D9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743B-8584-4449-A44A-A1D32D32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5EA0-64D0-43D4-8A0F-62298499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FE5F-7ADD-469A-84A4-5CD061A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5794-BA0F-4968-B397-94F18010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D9AD-FD7E-4861-9D28-DCBBFC03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BBC-040F-4EDB-8627-A4E4E206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CD38-3727-465F-A119-DB721F9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7DAC-4932-43C8-95F4-12A032E4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3E95-299A-479C-AEF8-B8EF8C3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20FA-AF70-4715-BDA8-A0C91026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F260-1894-41F8-984D-92183DD6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607A-EE3C-4C10-81EB-A46238D3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9014-0526-4683-B752-C953B441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78EE-02DC-4979-8CB3-98ED48EF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1F81-7FB7-4E62-9118-DC69BFA8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A228-EE84-47B0-B93C-47772CEC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FEC-9A1D-470F-A3FD-E6693836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3E79-719C-42E2-98BC-CBB7CB4A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BCA4-2DE5-43CB-B037-8AE49B7B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88FB-CDF1-4B6B-8A99-8800389D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09D54-F923-473B-BEA5-842C078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122A-B3B5-48D1-9E93-7893B2E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1D71-CB34-4B51-ACB2-6964209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8039-9BE0-4155-9DC7-7AA5371D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3839-4B3A-46F8-A5F8-70F7BA7D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82FA-EA44-4737-B472-790910B7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28216-7B04-40DF-A8A6-72B94020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D6B-A016-4942-95B4-BFC6476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4C3E5-34DC-47CB-BB10-34D3217F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37979-C7EE-44CE-A642-042C8CE1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3562F-EE0A-4E1B-82F8-1F694322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E9A8-8145-48FB-B5C2-67CAAA1A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1BF28-AE0C-4798-8E6C-A838B581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7C41C-917F-498E-AFF8-087E38E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CAF0-4A73-41B3-8D5A-51F9A60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C915E-435A-4715-8ADB-B5C6AC2A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E36AC-697C-43A2-8B61-8F7B1716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7440-D4C1-487D-8351-AAD019B3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F92-4C61-4F21-A040-95356405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DA2A7-7EC6-466F-A929-78D6A6E1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B895B-CA82-4F2D-ADE5-086D2A93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ED92D-4CC3-48DF-A430-FAB02EB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D5A56-B072-4D27-8325-2579210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FEA68-BC74-4756-B626-E2114100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7B290-E134-4E0F-8223-AC9A7376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CF0F-4DE0-42EC-B2BA-A88D242A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0D99C-2A22-46BE-A4AB-B7A07CD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AF41-6316-4F6D-A109-7E194B9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F2430-5587-4293-A112-75A22CA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A17-624B-44B0-BDAA-C69FCE31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353C4-FA10-410B-A5E7-50DD4F3B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ECD98-759F-4807-9FE2-B6EC5A26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2FBC-602E-4B87-B068-6C7CB6D0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EF76A-E7A3-47F2-9B35-65B857EF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79B74-5043-4536-9BB0-C8E060DD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E3B65-4F0D-4F74-994B-9F1DEB2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3AE88-6B67-4634-A32E-B5B46649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C2868-0EFD-4718-88DA-F3D94214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3232-6701-4A0E-BC9B-E20D41F2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17607-0BFB-46B8-8553-F917882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11A-8418-468C-B484-D3D3478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B1FE-8FC4-4CD8-B0EB-BA692236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30481-A729-4146-93C2-ECD877A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BEFE9-51BA-43C0-9D0F-0AE354EF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5F66C-BEE2-42B2-8E17-D85F4FAA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4B833-FE6C-4699-812E-6741B6FE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E81-9EDC-4594-A73F-7E76D0A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9750-B7C0-464F-8522-D9A11BFBEE3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F171-CF87-4ED1-A4AA-9897EB1B0C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87AF-0586-4A11-80D9-7049BEC2AA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87F7-AA11-4F65-A16C-2C9CB47D44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CCD5-0859-4F7A-9628-F3C9257F2F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7092000" y="6467760"/>
            <a:ext cx="11314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046C-885C-48F3-B99B-CB061D3876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713C-2D64-4700-90CD-D4446765FC4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11.jpeg"/><Relationship Id="rId52" Type="http://schemas.openxmlformats.org/officeDocument/2006/relationships/image" Target="../media/image11.jpeg"/><Relationship Id="rId53" Type="http://schemas.openxmlformats.org/officeDocument/2006/relationships/image" Target="../media/image11.jpeg"/><Relationship Id="rId54" Type="http://schemas.openxmlformats.org/officeDocument/2006/relationships/image" Target="../media/image11.jpeg"/><Relationship Id="rId55" Type="http://schemas.openxmlformats.org/officeDocument/2006/relationships/image" Target="../media/image11.jpeg"/><Relationship Id="rId56" Type="http://schemas.openxmlformats.org/officeDocument/2006/relationships/image" Target="../media/image11.jpeg"/><Relationship Id="rId5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6.jpeg"/><Relationship Id="rId52" Type="http://schemas.openxmlformats.org/officeDocument/2006/relationships/image" Target="../media/image6.jpeg"/><Relationship Id="rId53" Type="http://schemas.openxmlformats.org/officeDocument/2006/relationships/image" Target="../media/image6.jpeg"/><Relationship Id="rId54" Type="http://schemas.openxmlformats.org/officeDocument/2006/relationships/image" Target="../media/image6.jpeg"/><Relationship Id="rId55" Type="http://schemas.openxmlformats.org/officeDocument/2006/relationships/image" Target="../media/image6.jpeg"/><Relationship Id="rId56" Type="http://schemas.openxmlformats.org/officeDocument/2006/relationships/image" Target="../media/image6.jpeg"/><Relationship Id="rId5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999720" y="1285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64646"/>
                </a:solidFill>
                <a:latin typeface="Perpetua"/>
              </a:rPr>
              <a:t> </a:t>
            </a:r>
            <a:r>
              <a:rPr b="1" lang="en-US" sz="5600" spc="-1" strike="noStrike">
                <a:solidFill>
                  <a:srgbClr val="2b66e9"/>
                </a:solidFill>
                <a:latin typeface="Perpetua"/>
              </a:rPr>
              <a:t>Fracţii ordinare</a:t>
            </a:r>
            <a:r>
              <a:rPr b="0" lang="en-US" sz="5600" spc="-1" strike="noStrike">
                <a:solidFill>
                  <a:srgbClr val="464646"/>
                </a:solidFill>
                <a:latin typeface="Perpetua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71680" y="1714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3" name="Picture 8" descr="copii1_04"/>
          <p:cNvPicPr/>
          <p:nvPr/>
        </p:nvPicPr>
        <p:blipFill>
          <a:blip r:embed="rId1"/>
          <a:stretch/>
        </p:blipFill>
        <p:spPr>
          <a:xfrm>
            <a:off x="7286760" y="3571920"/>
            <a:ext cx="1218960" cy="1143000"/>
          </a:xfrm>
          <a:prstGeom prst="rect">
            <a:avLst/>
          </a:prstGeom>
          <a:ln w="57240">
            <a:solidFill>
              <a:srgbClr val="452e17"/>
            </a:solidFill>
            <a:miter/>
          </a:ln>
        </p:spPr>
      </p:pic>
      <p:pic>
        <p:nvPicPr>
          <p:cNvPr id="324" name="Picture 21" descr="Flashing_lights"/>
          <p:cNvPicPr/>
          <p:nvPr/>
        </p:nvPicPr>
        <p:blipFill>
          <a:blip r:embed="rId2"/>
          <a:stretch/>
        </p:blipFill>
        <p:spPr>
          <a:xfrm>
            <a:off x="1714680" y="2428920"/>
            <a:ext cx="6000480" cy="104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FRCircles1"/>
          <p:cNvPicPr/>
          <p:nvPr/>
        </p:nvPicPr>
        <p:blipFill>
          <a:blip r:embed="rId3"/>
          <a:stretch/>
        </p:blipFill>
        <p:spPr>
          <a:xfrm>
            <a:off x="642960" y="3571920"/>
            <a:ext cx="1428840" cy="13446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326" name="TextBox 7"/>
          <p:cNvSpPr/>
          <p:nvPr/>
        </p:nvSpPr>
        <p:spPr>
          <a:xfrm>
            <a:off x="1285920" y="4000680"/>
            <a:ext cx="70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a a 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Iuliana Mold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coala cu clasele I-VIII “Avram Iancu” Satu M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32"/>
          <p:cNvSpPr/>
          <p:nvPr/>
        </p:nvSpPr>
        <p:spPr>
          <a:xfrm>
            <a:off x="4724280" y="0"/>
            <a:ext cx="4419720" cy="685800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Fracţii egal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029200" y="4572000"/>
          <a:ext cx="416556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380880" y="1371600"/>
          <a:ext cx="533520" cy="19810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029200" y="2286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029200" y="236232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523880" y="1371600"/>
          <a:ext cx="990720" cy="19810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3200400" y="1371600"/>
          <a:ext cx="1371600" cy="19810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2" name="Text Box 1600"/>
          <p:cNvSpPr/>
          <p:nvPr/>
        </p:nvSpPr>
        <p:spPr>
          <a:xfrm>
            <a:off x="10666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601"/>
          <p:cNvSpPr/>
          <p:nvPr/>
        </p:nvSpPr>
        <p:spPr>
          <a:xfrm>
            <a:off x="26668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91"/>
          <p:cNvSpPr/>
          <p:nvPr/>
        </p:nvSpPr>
        <p:spPr>
          <a:xfrm>
            <a:off x="304920" y="3276720"/>
            <a:ext cx="426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O do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5 zecimi                     sunt eg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50 de sut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992"/>
          <p:cNvSpPr/>
          <p:nvPr/>
        </p:nvSpPr>
        <p:spPr>
          <a:xfrm>
            <a:off x="2438280" y="327672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93"/>
          <p:cNvSpPr/>
          <p:nvPr/>
        </p:nvSpPr>
        <p:spPr>
          <a:xfrm>
            <a:off x="-93600" y="502920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Ele reprezintă aceeaşi pa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in într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1"/>
          <p:cNvSpPr/>
          <p:nvPr/>
        </p:nvSpPr>
        <p:spPr>
          <a:xfrm rot="5400000">
            <a:off x="4343040" y="2057040"/>
            <a:ext cx="6858000" cy="2743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4572000" cy="895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Franklin Gothic Book"/>
              </a:rPr>
              <a:t>Compararea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  </a:t>
            </a:r>
            <a:r>
              <a:rPr b="1" lang="ro-RO" sz="3600" spc="-1" strike="noStrike">
                <a:solidFill>
                  <a:srgbClr val="c00000"/>
                </a:solidFill>
                <a:latin typeface="Franklin Gothic Book"/>
              </a:rPr>
              <a:t>fracţiilor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9" name="Picture 12" descr="2 pe 4"/>
          <p:cNvPicPr/>
          <p:nvPr/>
        </p:nvPicPr>
        <p:blipFill>
          <a:blip r:embed="rId1"/>
          <a:stretch/>
        </p:blipFill>
        <p:spPr>
          <a:xfrm>
            <a:off x="6929280" y="2643120"/>
            <a:ext cx="1733760" cy="1762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6" descr="3 patrimi"/>
          <p:cNvPicPr/>
          <p:nvPr/>
        </p:nvPicPr>
        <p:blipFill>
          <a:blip r:embed="rId2"/>
          <a:stretch/>
        </p:blipFill>
        <p:spPr>
          <a:xfrm>
            <a:off x="6858000" y="533520"/>
            <a:ext cx="174636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5486400" y="274320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2" name="Picture 14" descr="2 cincimi"/>
          <p:cNvPicPr/>
          <p:nvPr/>
        </p:nvPicPr>
        <p:blipFill>
          <a:blip r:embed="rId3"/>
          <a:stretch/>
        </p:blipFill>
        <p:spPr>
          <a:xfrm>
            <a:off x="7072200" y="4786200"/>
            <a:ext cx="1524240" cy="1419480"/>
          </a:xfrm>
          <a:prstGeom prst="rect">
            <a:avLst/>
          </a:prstGeom>
          <a:ln w="0">
            <a:noFill/>
          </a:ln>
        </p:spPr>
      </p:pic>
      <p:sp>
        <p:nvSpPr>
          <p:cNvPr id="443" name="Oval 17"/>
          <p:cNvSpPr/>
          <p:nvPr/>
        </p:nvSpPr>
        <p:spPr>
          <a:xfrm>
            <a:off x="7086600" y="4648320"/>
            <a:ext cx="1523880" cy="1523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8"/>
          <p:cNvSpPr/>
          <p:nvPr/>
        </p:nvSpPr>
        <p:spPr>
          <a:xfrm>
            <a:off x="6934320" y="2666880"/>
            <a:ext cx="160020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9"/>
          <p:cNvSpPr/>
          <p:nvPr/>
        </p:nvSpPr>
        <p:spPr>
          <a:xfrm>
            <a:off x="6934320" y="609480"/>
            <a:ext cx="152388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486400" y="83808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5562720" y="472428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71"/>
          <p:cNvSpPr/>
          <p:nvPr/>
        </p:nvSpPr>
        <p:spPr>
          <a:xfrm>
            <a:off x="571680" y="1928880"/>
            <a:ext cx="4848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Dintre do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uă fracţii cu acelaşi numărător este mai mare fracţia cu numitorul mai 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905120" y="335268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505320" y="335268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Text Box 92"/>
          <p:cNvSpPr/>
          <p:nvPr/>
        </p:nvSpPr>
        <p:spPr>
          <a:xfrm>
            <a:off x="2819520" y="36576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981080" y="4876920"/>
          <a:ext cx="685800" cy="14014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 Box 103"/>
          <p:cNvSpPr/>
          <p:nvPr/>
        </p:nvSpPr>
        <p:spPr>
          <a:xfrm>
            <a:off x="2895480" y="5181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581280" y="4876920"/>
          <a:ext cx="685800" cy="14014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Line 114"/>
          <p:cNvSpPr/>
          <p:nvPr/>
        </p:nvSpPr>
        <p:spPr>
          <a:xfrm>
            <a:off x="6400800" y="2357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15"/>
          <p:cNvSpPr/>
          <p:nvPr/>
        </p:nvSpPr>
        <p:spPr>
          <a:xfrm>
            <a:off x="6400800" y="4500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18"/>
          <p:cNvSpPr/>
          <p:nvPr/>
        </p:nvSpPr>
        <p:spPr>
          <a:xfrm>
            <a:off x="6934320" y="609480"/>
            <a:ext cx="152388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19"/>
          <p:cNvSpPr/>
          <p:nvPr/>
        </p:nvSpPr>
        <p:spPr>
          <a:xfrm>
            <a:off x="6934320" y="2666880"/>
            <a:ext cx="160020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20"/>
          <p:cNvSpPr/>
          <p:nvPr/>
        </p:nvSpPr>
        <p:spPr>
          <a:xfrm>
            <a:off x="7086600" y="4648320"/>
            <a:ext cx="152388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28"/>
          <p:cNvSpPr/>
          <p:nvPr/>
        </p:nvSpPr>
        <p:spPr>
          <a:xfrm flipH="1">
            <a:off x="7734240" y="3500280"/>
            <a:ext cx="52560" cy="7668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66"/>
          <p:cNvSpPr/>
          <p:nvPr/>
        </p:nvSpPr>
        <p:spPr>
          <a:xfrm>
            <a:off x="6019920" y="0"/>
            <a:ext cx="3124080" cy="6858000"/>
          </a:xfrm>
          <a:prstGeom prst="rect">
            <a:avLst/>
          </a:prstGeom>
          <a:solidFill>
            <a:srgbClr val="44b9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36"/>
          <p:cNvSpPr/>
          <p:nvPr/>
        </p:nvSpPr>
        <p:spPr>
          <a:xfrm>
            <a:off x="6019920" y="563868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35"/>
          <p:cNvSpPr/>
          <p:nvPr/>
        </p:nvSpPr>
        <p:spPr>
          <a:xfrm>
            <a:off x="6019920" y="358128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34"/>
          <p:cNvSpPr/>
          <p:nvPr/>
        </p:nvSpPr>
        <p:spPr>
          <a:xfrm>
            <a:off x="6019920" y="14479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581360" cy="733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6633"/>
                </a:solidFill>
                <a:latin typeface="Franklin Gothic Book"/>
              </a:rPr>
              <a:t>Compararea </a:t>
            </a:r>
            <a:r>
              <a:rPr b="1" lang="en-US" sz="3600" spc="-1" strike="noStrike">
                <a:solidFill>
                  <a:srgbClr val="996633"/>
                </a:solidFill>
                <a:latin typeface="Franklin Gothic Book"/>
              </a:rPr>
              <a:t>f</a:t>
            </a:r>
            <a:r>
              <a:rPr b="1" lang="ro-RO" sz="3600" spc="-1" strike="noStrike">
                <a:solidFill>
                  <a:srgbClr val="996633"/>
                </a:solidFill>
                <a:latin typeface="Franklin Gothic Book"/>
              </a:rPr>
              <a:t>racţiilor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400800" y="4724280"/>
          <a:ext cx="2057400" cy="186552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 u="sng">
                          <a:solidFill>
                            <a:srgbClr val="d6b97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400800" y="457200"/>
          <a:ext cx="2057400" cy="192240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 u="sng">
                          <a:solidFill>
                            <a:srgbClr val="d6b97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sp>
        <p:nvSpPr>
          <p:cNvPr id="468" name=""/>
          <p:cNvSpPr txBox="1"/>
          <p:nvPr/>
        </p:nvSpPr>
        <p:spPr>
          <a:xfrm>
            <a:off x="380520" y="1599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Perpetua"/>
              </a:rPr>
              <a:t>Dintre două fracţii care au acelaşi numitor este mai mare fracţia care are numărătorul mai ma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400800" y="2590920"/>
          <a:ext cx="2057400" cy="192240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 u="sng">
                          <a:solidFill>
                            <a:srgbClr val="d6b97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4952880" y="685800"/>
          <a:ext cx="990720" cy="1401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952880" y="2819520"/>
          <a:ext cx="990720" cy="14014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4952880" y="5029200"/>
          <a:ext cx="990720" cy="1401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3124080" y="3124080"/>
          <a:ext cx="990720" cy="1401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295280" y="3200400"/>
          <a:ext cx="990720" cy="1401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1371600" y="4648320"/>
          <a:ext cx="990720" cy="14014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3124080" y="4648320"/>
          <a:ext cx="990720" cy="14014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Text Box 532"/>
          <p:cNvSpPr/>
          <p:nvPr/>
        </p:nvSpPr>
        <p:spPr>
          <a:xfrm>
            <a:off x="2514600" y="3505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33"/>
          <p:cNvSpPr/>
          <p:nvPr/>
        </p:nvSpPr>
        <p:spPr>
          <a:xfrm>
            <a:off x="2590920" y="4952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Aflarea unei fracţii dintr-un numa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0" name="TextBox 2"/>
          <p:cNvSpPr/>
          <p:nvPr/>
        </p:nvSpPr>
        <p:spPr>
          <a:xfrm>
            <a:off x="324720" y="1428840"/>
            <a:ext cx="83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a afla o fr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e dintr-un număr, inmulţim numărul respectiv cu fracţia d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xemplu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n x reprezint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571680" y="2000160"/>
                <a:ext cx="4618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"/>
              <p:cNvSpPr txBox="1"/>
              <p:nvPr/>
            </p:nvSpPr>
            <p:spPr>
              <a:xfrm>
                <a:off x="2857680" y="2071800"/>
                <a:ext cx="769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Rectangle 5"/>
          <p:cNvSpPr/>
          <p:nvPr/>
        </p:nvSpPr>
        <p:spPr>
          <a:xfrm>
            <a:off x="357120" y="32148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00000"/>
                </a:solidFill>
                <a:latin typeface="Arial"/>
              </a:rPr>
              <a:t>Pr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14200" y="400068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centul se exprimă sub forma unei fracţii cu numitorul 100 (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bservaţie: procentul            se mai scrie p% şi se citeşte “p la sută” sau “p proce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ică p% din n este egal 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52"/>
              <p:cNvSpPr txBox="1"/>
              <p:nvPr/>
            </p:nvSpPr>
            <p:spPr>
              <a:xfrm>
                <a:off x="3714840" y="4929120"/>
                <a:ext cx="101268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571840" y="4357800"/>
                <a:ext cx="714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6572160" y="3786120"/>
                <a:ext cx="714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8" name="Object 53"/>
              <p:cNvSpPr txBox="1"/>
              <p:nvPr/>
            </p:nvSpPr>
            <p:spPr>
              <a:xfrm>
                <a:off x="2786040" y="728640"/>
                <a:ext cx="2858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2"/>
              <p:cNvSpPr txBox="1"/>
              <p:nvPr/>
            </p:nvSpPr>
            <p:spPr>
              <a:xfrm>
                <a:off x="2038320" y="2000160"/>
                <a:ext cx="20653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0" name="Rectangle 54"/>
          <p:cNvSpPr/>
          <p:nvPr/>
        </p:nvSpPr>
        <p:spPr>
          <a:xfrm>
            <a:off x="214200" y="9320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amplifica fracţi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cu numărul natural nenul n, înseamă a înmulţi şi numărătorul a şi numitorul b cu 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n amplificare, se obţine o fracţie egală cu cea d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9"/>
          <p:cNvSpPr/>
          <p:nvPr/>
        </p:nvSpPr>
        <p:spPr>
          <a:xfrm>
            <a:off x="733320" y="2143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ăm: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0"/>
          <p:cNvSpPr/>
          <p:nvPr/>
        </p:nvSpPr>
        <p:spPr>
          <a:xfrm>
            <a:off x="285840" y="3332880"/>
            <a:ext cx="84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e n </a:t>
            </a:r>
            <a:r>
              <a:rPr b="1" i="1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un divizor comun al numerelor naturale a şi b, unde b</a:t>
            </a:r>
            <a:r>
              <a:rPr b="1" i="1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plifica fracţia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 numărul natural nenul n, înseamă a împărţi şi numărătorul a şi numitorul b la n. Prin simplificare, se obţine o fracţie egală cu cea d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59"/>
              <p:cNvSpPr txBox="1"/>
              <p:nvPr/>
            </p:nvSpPr>
            <p:spPr>
              <a:xfrm>
                <a:off x="2428920" y="3571920"/>
                <a:ext cx="428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4" name="Rectangle 63"/>
          <p:cNvSpPr/>
          <p:nvPr/>
        </p:nvSpPr>
        <p:spPr>
          <a:xfrm>
            <a:off x="2316960" y="35712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Amplificarea şi si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plificarea fracţi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62"/>
              <p:cNvSpPr txBox="1"/>
              <p:nvPr/>
            </p:nvSpPr>
            <p:spPr>
              <a:xfrm>
                <a:off x="2786040" y="4714920"/>
                <a:ext cx="20509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Rectangle 66"/>
          <p:cNvSpPr/>
          <p:nvPr/>
        </p:nvSpPr>
        <p:spPr>
          <a:xfrm>
            <a:off x="733320" y="48578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ăm: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32"/>
          <p:cNvSpPr/>
          <p:nvPr/>
        </p:nvSpPr>
        <p:spPr>
          <a:xfrm>
            <a:off x="4724280" y="0"/>
            <a:ext cx="4419720" cy="685800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Fracţii egal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5029200" y="4572000"/>
          <a:ext cx="416556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380880" y="1371600"/>
          <a:ext cx="533520" cy="19810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5029200" y="2286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5029200" y="236232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523880" y="1371600"/>
          <a:ext cx="990720" cy="19810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200400" y="1371600"/>
          <a:ext cx="1371600" cy="19810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1600"/>
          <p:cNvSpPr/>
          <p:nvPr/>
        </p:nvSpPr>
        <p:spPr>
          <a:xfrm>
            <a:off x="10666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601"/>
          <p:cNvSpPr/>
          <p:nvPr/>
        </p:nvSpPr>
        <p:spPr>
          <a:xfrm>
            <a:off x="26668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91"/>
          <p:cNvSpPr/>
          <p:nvPr/>
        </p:nvSpPr>
        <p:spPr>
          <a:xfrm>
            <a:off x="304920" y="3276720"/>
            <a:ext cx="426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O do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5 zecimi</a:t>
            </a:r>
            <a:r>
              <a:rPr b="1" lang="en-US" sz="2400" spc="-1" strike="noStrike">
                <a:solidFill>
                  <a:srgbClr val="452e17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         sunt</a:t>
            </a:r>
            <a:r>
              <a:rPr b="1" lang="en-US" sz="2400" spc="-1" strike="noStrike">
                <a:solidFill>
                  <a:srgbClr val="452e17"/>
                </a:solidFill>
                <a:latin typeface="Arial"/>
              </a:rPr>
              <a:t> egale</a:t>
            </a: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52e17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50 de sut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992"/>
          <p:cNvSpPr/>
          <p:nvPr/>
        </p:nvSpPr>
        <p:spPr>
          <a:xfrm>
            <a:off x="2143080" y="3286080"/>
            <a:ext cx="166680" cy="1795680"/>
          </a:xfrm>
          <a:custGeom>
            <a:avLst/>
            <a:gdLst>
              <a:gd name="textAreaLeft" fmla="*/ 0 w 166680"/>
              <a:gd name="textAreaRight" fmla="*/ 60120 w 166680"/>
              <a:gd name="textAreaTop" fmla="*/ 28800 h 1795680"/>
              <a:gd name="textAreaBottom" fmla="*/ 1766880 h 17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7"/>
                  <a:pt x="10800" y="1114"/>
                </a:cubicBezTo>
                <a:lnTo>
                  <a:pt x="10800" y="9686"/>
                </a:lnTo>
                <a:cubicBezTo>
                  <a:pt x="10800" y="10243"/>
                  <a:pt x="16200" y="10800"/>
                  <a:pt x="21600" y="10800"/>
                </a:cubicBezTo>
                <a:cubicBezTo>
                  <a:pt x="16200" y="10800"/>
                  <a:pt x="10800" y="11357"/>
                  <a:pt x="10800" y="11914"/>
                </a:cubicBezTo>
                <a:lnTo>
                  <a:pt x="10800" y="20486"/>
                </a:lnTo>
                <a:cubicBezTo>
                  <a:pt x="10800" y="2104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993"/>
          <p:cNvSpPr/>
          <p:nvPr/>
        </p:nvSpPr>
        <p:spPr>
          <a:xfrm>
            <a:off x="248760" y="5029200"/>
            <a:ext cx="39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Ele reprezintă aceea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a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in într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a5c2e"/>
                </a:solidFill>
                <a:latin typeface="Franklin Gothic Book"/>
              </a:rPr>
              <a:t>Fracţii egal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2"/>
              <p:cNvSpPr txBox="1"/>
              <p:nvPr/>
            </p:nvSpPr>
            <p:spPr>
              <a:xfrm>
                <a:off x="2712960" y="353700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6"/>
              <p:cNvSpPr txBox="1"/>
              <p:nvPr/>
            </p:nvSpPr>
            <p:spPr>
              <a:xfrm>
                <a:off x="6934320" y="304920"/>
                <a:ext cx="4712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4" name="Rectangle 5"/>
          <p:cNvSpPr/>
          <p:nvPr/>
        </p:nvSpPr>
        <p:spPr>
          <a:xfrm>
            <a:off x="1622520" y="2733840"/>
            <a:ext cx="294948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609480" y="1600200"/>
                <a:ext cx="6192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16" name=""/>
          <p:cNvGraphicFramePr/>
          <p:nvPr/>
        </p:nvGraphicFramePr>
        <p:xfrm>
          <a:off x="1752480" y="1676520"/>
          <a:ext cx="5899320" cy="838080"/>
        </p:xfrm>
        <a:graphic>
          <a:graphicData uri="http://schemas.openxmlformats.org/drawingml/2006/table">
            <a:tbl>
              <a:tblPr/>
              <a:tblGrid>
                <a:gridCol w="2949840"/>
                <a:gridCol w="294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Rectangle 21"/>
          <p:cNvSpPr/>
          <p:nvPr/>
        </p:nvSpPr>
        <p:spPr>
          <a:xfrm>
            <a:off x="812880" y="2589120"/>
            <a:ext cx="147312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 rot="16200000">
            <a:off x="3066840" y="1276200"/>
            <a:ext cx="342720" cy="2971800"/>
          </a:xfrm>
          <a:custGeom>
            <a:avLst/>
            <a:gdLst>
              <a:gd name="textAreaLeft" fmla="*/ 218880 w 342720"/>
              <a:gd name="textAreaRight" fmla="*/ 343080 w 3427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752480" y="3276720"/>
          <a:ext cx="5896080" cy="91440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4560"/>
                <a:gridCol w="14749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Rectangle 48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4"/>
              <p:cNvSpPr txBox="1"/>
              <p:nvPr/>
            </p:nvSpPr>
            <p:spPr>
              <a:xfrm>
                <a:off x="685800" y="3505320"/>
                <a:ext cx="542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AutoShape 52"/>
          <p:cNvSpPr/>
          <p:nvPr/>
        </p:nvSpPr>
        <p:spPr>
          <a:xfrm rot="16200000">
            <a:off x="3066840" y="2952360"/>
            <a:ext cx="343080" cy="2971800"/>
          </a:xfrm>
          <a:custGeom>
            <a:avLst/>
            <a:gdLst>
              <a:gd name="textAreaLeft" fmla="*/ 219240 w 343080"/>
              <a:gd name="textAreaRight" fmla="*/ 343440 w 3430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3"/>
          <p:cNvSpPr/>
          <p:nvPr/>
        </p:nvSpPr>
        <p:spPr>
          <a:xfrm>
            <a:off x="-204120" y="5181120"/>
            <a:ext cx="83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Fracţiile care reprezintă aceeaşi parte din într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(unitate) se numesc fracţii eg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5"/>
              <p:cNvSpPr txBox="1"/>
              <p:nvPr/>
            </p:nvSpPr>
            <p:spPr>
              <a:xfrm>
                <a:off x="5638680" y="228600"/>
                <a:ext cx="6159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Rectangle 66"/>
          <p:cNvSpPr/>
          <p:nvPr/>
        </p:nvSpPr>
        <p:spPr>
          <a:xfrm>
            <a:off x="0" y="81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1800" y="27770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8"/>
          <p:cNvSpPr/>
          <p:nvPr/>
        </p:nvSpPr>
        <p:spPr>
          <a:xfrm>
            <a:off x="0" y="5814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9"/>
          <p:cNvSpPr/>
          <p:nvPr/>
        </p:nvSpPr>
        <p:spPr>
          <a:xfrm>
            <a:off x="6248520" y="533520"/>
            <a:ext cx="68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64296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Adunarea numerelor raţionale reprezentate de fracţii care au aceiaşi num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3643200" y="3000240"/>
                <a:ext cx="26290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Rectangle 4"/>
          <p:cNvSpPr/>
          <p:nvPr/>
        </p:nvSpPr>
        <p:spPr>
          <a:xfrm>
            <a:off x="928800" y="1785960"/>
            <a:ext cx="735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Pentru a aduna dou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ă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(sau mai multe) numere ra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ţionale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reprezentate de frac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ţii care au numitorii egali, adunăm numărătorii şi lăsăm numitorul neschimba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85880" y="4022280"/>
            <a:ext cx="128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9966"/>
                </a:solidFill>
                <a:latin typeface="Arial"/>
                <a:ea typeface="Times New Roman"/>
              </a:rPr>
              <a:t>Exemplu.</a:t>
            </a:r>
            <a:r>
              <a:rPr b="0" i="1" lang="en-US" sz="1600" spc="-1" strike="noStrike">
                <a:solidFill>
                  <a:srgbClr val="339966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1214280" y="4929120"/>
                <a:ext cx="3214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4103640" y="1714680"/>
                <a:ext cx="35733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4286160" y="2786040"/>
                <a:ext cx="3035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4357800" y="4143240"/>
                <a:ext cx="2833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7" name="Rectangle 6"/>
          <p:cNvSpPr/>
          <p:nvPr/>
        </p:nvSpPr>
        <p:spPr>
          <a:xfrm>
            <a:off x="642960" y="18579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ociativitat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642960" y="3112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utativitat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714240" y="432720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neu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457200" y="3583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1528920" y="500040"/>
            <a:ext cx="525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Propriet</a:t>
            </a:r>
            <a:r>
              <a:rPr b="1" i="1" lang="ro-RO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ăţ</a:t>
            </a:r>
            <a:r>
              <a:rPr b="1" i="1" lang="en-US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ile adun</a:t>
            </a:r>
            <a:r>
              <a:rPr b="1" i="1" lang="ro-RO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ă</a:t>
            </a:r>
            <a:r>
              <a:rPr b="1" i="1" lang="en-US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r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500120" y="1428840"/>
          <a:ext cx="6096240" cy="498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0320"/>
                <a:gridCol w="761760"/>
                <a:gridCol w="762120"/>
                <a:gridCol w="763560"/>
                <a:gridCol w="762120"/>
                <a:gridCol w="762120"/>
              </a:tblGrid>
              <a:tr h="4982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AutoShape 1"/>
          <p:cNvSpPr/>
          <p:nvPr/>
        </p:nvSpPr>
        <p:spPr>
          <a:xfrm rot="16200000">
            <a:off x="5129280" y="728280"/>
            <a:ext cx="314280" cy="3000600"/>
          </a:xfrm>
          <a:custGeom>
            <a:avLst/>
            <a:gdLst>
              <a:gd name="textAreaLeft" fmla="*/ 200880 w 314280"/>
              <a:gd name="textAreaRight" fmla="*/ 314640 w 314280"/>
              <a:gd name="textAreaTop" fmla="*/ 86040 h 3000600"/>
              <a:gd name="textAreaBottom" fmla="*/ 2914560 h 30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3"/>
                  <a:pt x="10800" y="1985"/>
                </a:cubicBezTo>
                <a:lnTo>
                  <a:pt x="10800" y="8815"/>
                </a:lnTo>
                <a:cubicBezTo>
                  <a:pt x="10800" y="9808"/>
                  <a:pt x="5400" y="10800"/>
                  <a:pt x="0" y="10800"/>
                </a:cubicBezTo>
                <a:cubicBezTo>
                  <a:pt x="5400" y="10800"/>
                  <a:pt x="10800" y="11793"/>
                  <a:pt x="10800" y="12785"/>
                </a:cubicBezTo>
                <a:lnTo>
                  <a:pt x="10800" y="19615"/>
                </a:lnTo>
                <a:cubicBezTo>
                  <a:pt x="10800" y="2060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"/>
          <p:cNvSpPr/>
          <p:nvPr/>
        </p:nvSpPr>
        <p:spPr>
          <a:xfrm rot="16200000">
            <a:off x="2451240" y="1049400"/>
            <a:ext cx="312480" cy="2357280"/>
          </a:xfrm>
          <a:custGeom>
            <a:avLst/>
            <a:gdLst>
              <a:gd name="textAreaLeft" fmla="*/ 199800 w 312480"/>
              <a:gd name="textAreaRight" fmla="*/ 312840 w 312480"/>
              <a:gd name="textAreaTop" fmla="*/ 63720 h 2357280"/>
              <a:gd name="textAreaBottom" fmla="*/ 229356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4"/>
                  <a:pt x="10800" y="1867"/>
                </a:cubicBezTo>
                <a:lnTo>
                  <a:pt x="10800" y="8933"/>
                </a:lnTo>
                <a:cubicBezTo>
                  <a:pt x="10800" y="9867"/>
                  <a:pt x="5400" y="10800"/>
                  <a:pt x="0" y="10800"/>
                </a:cubicBezTo>
                <a:cubicBezTo>
                  <a:pt x="5400" y="10800"/>
                  <a:pt x="10800" y="11734"/>
                  <a:pt x="10800" y="12667"/>
                </a:cubicBezTo>
                <a:lnTo>
                  <a:pt x="10800" y="19733"/>
                </a:lnTo>
                <a:cubicBezTo>
                  <a:pt x="10800" y="206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428840" y="52696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4"/>
              <p:cNvSpPr txBox="1"/>
              <p:nvPr/>
            </p:nvSpPr>
            <p:spPr>
              <a:xfrm>
                <a:off x="2500200" y="2500200"/>
                <a:ext cx="4352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6"/>
              <p:cNvSpPr txBox="1"/>
              <p:nvPr/>
            </p:nvSpPr>
            <p:spPr>
              <a:xfrm>
                <a:off x="5143680" y="2428920"/>
                <a:ext cx="4730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8"/>
              <p:cNvSpPr txBox="1"/>
              <p:nvPr/>
            </p:nvSpPr>
            <p:spPr>
              <a:xfrm>
                <a:off x="4500720" y="4000680"/>
                <a:ext cx="47304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10"/>
              <p:cNvSpPr txBox="1"/>
              <p:nvPr/>
            </p:nvSpPr>
            <p:spPr>
              <a:xfrm>
                <a:off x="3143160" y="4000680"/>
                <a:ext cx="435240" cy="11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Rectangle 12"/>
          <p:cNvSpPr/>
          <p:nvPr/>
        </p:nvSpPr>
        <p:spPr>
          <a:xfrm>
            <a:off x="3643200" y="400500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5000760" y="4005000"/>
            <a:ext cx="9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4"/>
              <p:cNvSpPr txBox="1"/>
              <p:nvPr/>
            </p:nvSpPr>
            <p:spPr>
              <a:xfrm>
                <a:off x="5675400" y="3857760"/>
                <a:ext cx="539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Rectangle 15"/>
          <p:cNvSpPr/>
          <p:nvPr/>
        </p:nvSpPr>
        <p:spPr>
          <a:xfrm>
            <a:off x="3857760" y="3592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"/>
          <p:cNvSpPr/>
          <p:nvPr/>
        </p:nvSpPr>
        <p:spPr>
          <a:xfrm rot="5400000">
            <a:off x="3986640" y="-1486800"/>
            <a:ext cx="312840" cy="5286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63720 h 5286600"/>
              <a:gd name="textAreaBottom" fmla="*/ 5222880 h 52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6"/>
                  <a:pt x="10800" y="832"/>
                </a:cubicBezTo>
                <a:lnTo>
                  <a:pt x="10800" y="9968"/>
                </a:lnTo>
                <a:cubicBezTo>
                  <a:pt x="10800" y="10384"/>
                  <a:pt x="5400" y="10800"/>
                  <a:pt x="0" y="10800"/>
                </a:cubicBezTo>
                <a:cubicBezTo>
                  <a:pt x="5400" y="10800"/>
                  <a:pt x="10800" y="11216"/>
                  <a:pt x="10800" y="11632"/>
                </a:cubicBezTo>
                <a:lnTo>
                  <a:pt x="10800" y="20768"/>
                </a:lnTo>
                <a:cubicBezTo>
                  <a:pt x="10800" y="211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948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46"/>
                </a:solidFill>
                <a:latin typeface="Franklin Gothic Book"/>
              </a:rPr>
              <a:t>Fracţie; reprezentarea fracţiilor cu ajutorul unor desene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Picture 103" descr="4sferturi"/>
          <p:cNvPicPr/>
          <p:nvPr/>
        </p:nvPicPr>
        <p:blipFill>
          <a:blip r:embed="rId1"/>
          <a:stretch/>
        </p:blipFill>
        <p:spPr>
          <a:xfrm>
            <a:off x="6858000" y="2071800"/>
            <a:ext cx="1571760" cy="14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1066680" y="1905120"/>
          <a:ext cx="685800" cy="2133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6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6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200400" y="1676520"/>
          <a:ext cx="3429000" cy="273348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ărăt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ie de fracţi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it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 txBox="1"/>
          <p:nvPr/>
        </p:nvSpPr>
        <p:spPr>
          <a:xfrm>
            <a:off x="285840" y="4214520"/>
            <a:ext cx="769608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Fracţiile se scriu cu ajutorul liniei de fracţie şi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a doi termeni :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Numărătorul – numără unităţile fracţionare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Numitorul – numeşte unităţile fracţionare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2 părţi roşii din cele 4 egale în care a fost împărţit întregul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Line 140"/>
          <p:cNvSpPr/>
          <p:nvPr/>
        </p:nvSpPr>
        <p:spPr>
          <a:xfrm flipH="1">
            <a:off x="1752120" y="2133720"/>
            <a:ext cx="1600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2"/>
          <p:cNvSpPr/>
          <p:nvPr/>
        </p:nvSpPr>
        <p:spPr>
          <a:xfrm flipH="1">
            <a:off x="190512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3"/>
          <p:cNvSpPr/>
          <p:nvPr/>
        </p:nvSpPr>
        <p:spPr>
          <a:xfrm flipH="1" flipV="1">
            <a:off x="1752480" y="3505320"/>
            <a:ext cx="1447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52e17"/>
                </a:solidFill>
                <a:latin typeface="Franklin Gothic Book"/>
              </a:rPr>
              <a:t>5 zecimi + 3 zecimi = 8 zecimi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85800" y="1981080"/>
          <a:ext cx="2386080" cy="2590920"/>
        </p:xfrm>
        <a:graphic>
          <a:graphicData uri="http://schemas.openxmlformats.org/drawingml/2006/table">
            <a:tbl>
              <a:tblPr/>
              <a:tblGrid>
                <a:gridCol w="1192320"/>
                <a:gridCol w="1193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3857760" y="1928880"/>
          <a:ext cx="1514520" cy="2590560"/>
        </p:xfrm>
        <a:graphic>
          <a:graphicData uri="http://schemas.openxmlformats.org/drawingml/2006/table">
            <a:tbl>
              <a:tblPr/>
              <a:tblGrid>
                <a:gridCol w="1514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6286680" y="1957320"/>
          <a:ext cx="2600280" cy="2651040"/>
        </p:xfrm>
        <a:graphic>
          <a:graphicData uri="http://schemas.openxmlformats.org/drawingml/2006/table">
            <a:tbl>
              <a:tblPr/>
              <a:tblGrid>
                <a:gridCol w="1342800"/>
                <a:gridCol w="125748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1285920" y="4786200"/>
          <a:ext cx="1066680" cy="1646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4143240" y="4786200"/>
          <a:ext cx="914400" cy="16462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6929280" y="4714920"/>
          <a:ext cx="914400" cy="1676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Text Box 53"/>
          <p:cNvSpPr/>
          <p:nvPr/>
        </p:nvSpPr>
        <p:spPr>
          <a:xfrm>
            <a:off x="3000240" y="52862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5"/>
          <p:cNvSpPr/>
          <p:nvPr/>
        </p:nvSpPr>
        <p:spPr>
          <a:xfrm>
            <a:off x="5643720" y="521496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"/>
          <p:cNvSpPr/>
          <p:nvPr/>
        </p:nvSpPr>
        <p:spPr>
          <a:xfrm>
            <a:off x="1000080" y="500040"/>
            <a:ext cx="628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Scăderea numerelor raţional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ff"/>
                </a:solidFill>
                <a:latin typeface="Arial"/>
              </a:rPr>
              <a:t>reprezentate de fracţii care au aceiaşi numi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428760" y="164304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Pentru a scădea două numere raţionale reprezentate de fracţii care au acelaşi numitor,scădem din numărătorul descăzutului numărătorul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sc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ăzătorului şi lăsăm numitorul neschim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"/>
              <p:cNvSpPr txBox="1"/>
              <p:nvPr/>
            </p:nvSpPr>
            <p:spPr>
              <a:xfrm>
                <a:off x="3286080" y="3500280"/>
                <a:ext cx="2027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0" name="Rectangle 4"/>
          <p:cNvSpPr/>
          <p:nvPr/>
        </p:nvSpPr>
        <p:spPr>
          <a:xfrm>
            <a:off x="864360" y="4429080"/>
            <a:ext cx="19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66"/>
                </a:solidFill>
                <a:latin typeface="Arial"/>
                <a:ea typeface="Times New Roman"/>
              </a:rPr>
              <a:t>Exemplu.</a:t>
            </a:r>
            <a:r>
              <a:rPr b="0" i="1" lang="en-US" sz="1800" spc="-1" strike="noStrike">
                <a:solidFill>
                  <a:srgbClr val="339966"/>
                </a:solidFill>
                <a:latin typeface="Arial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1198440" y="5143680"/>
                <a:ext cx="25243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2" name="Object 2"/>
              <p:cNvSpPr txBox="1"/>
              <p:nvPr/>
            </p:nvSpPr>
            <p:spPr>
              <a:xfrm>
                <a:off x="4286160" y="928800"/>
                <a:ext cx="4352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AutoShape 2"/>
          <p:cNvSpPr/>
          <p:nvPr/>
        </p:nvSpPr>
        <p:spPr>
          <a:xfrm rot="5400000">
            <a:off x="4342320" y="-1127880"/>
            <a:ext cx="230040" cy="6629400"/>
          </a:xfrm>
          <a:custGeom>
            <a:avLst/>
            <a:gdLst>
              <a:gd name="textAreaLeft" fmla="*/ 146880 w 230040"/>
              <a:gd name="textAreaRight" fmla="*/ 230400 w 23004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143000" y="2357280"/>
          <a:ext cx="6643800" cy="498600"/>
        </p:xfrm>
        <a:graphic>
          <a:graphicData uri="http://schemas.openxmlformats.org/drawingml/2006/table">
            <a:tbl>
              <a:tblPr/>
              <a:tblGrid>
                <a:gridCol w="830160"/>
                <a:gridCol w="830520"/>
                <a:gridCol w="830160"/>
                <a:gridCol w="830160"/>
                <a:gridCol w="830160"/>
                <a:gridCol w="830520"/>
                <a:gridCol w="831600"/>
                <a:gridCol w="830520"/>
              </a:tblGrid>
              <a:tr h="4986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AutoShape 3"/>
          <p:cNvSpPr/>
          <p:nvPr/>
        </p:nvSpPr>
        <p:spPr>
          <a:xfrm rot="16200000">
            <a:off x="2964600" y="1035720"/>
            <a:ext cx="357120" cy="4143240"/>
          </a:xfrm>
          <a:custGeom>
            <a:avLst/>
            <a:gdLst>
              <a:gd name="textAreaLeft" fmla="*/ 228240 w 357120"/>
              <a:gd name="textAreaRight" fmla="*/ 357480 w 357120"/>
              <a:gd name="textAreaTop" fmla="*/ 167400 h 4143240"/>
              <a:gd name="textAreaBottom" fmla="*/ 3975840 h 41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7"/>
                  <a:pt x="10800" y="2793"/>
                </a:cubicBezTo>
                <a:lnTo>
                  <a:pt x="10800" y="8007"/>
                </a:lnTo>
                <a:cubicBezTo>
                  <a:pt x="10800" y="9404"/>
                  <a:pt x="5400" y="10800"/>
                  <a:pt x="0" y="10800"/>
                </a:cubicBezTo>
                <a:cubicBezTo>
                  <a:pt x="5400" y="10800"/>
                  <a:pt x="10800" y="12197"/>
                  <a:pt x="10800" y="13593"/>
                </a:cubicBezTo>
                <a:lnTo>
                  <a:pt x="10800" y="18807"/>
                </a:lnTo>
                <a:cubicBezTo>
                  <a:pt x="10800" y="202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"/>
          <p:cNvSpPr/>
          <p:nvPr/>
        </p:nvSpPr>
        <p:spPr>
          <a:xfrm rot="16200000">
            <a:off x="6393600" y="1821600"/>
            <a:ext cx="357120" cy="2571840"/>
          </a:xfrm>
          <a:custGeom>
            <a:avLst/>
            <a:gdLst>
              <a:gd name="textAreaLeft" fmla="*/ 228240 w 357120"/>
              <a:gd name="textAreaRight" fmla="*/ 357480 w 357120"/>
              <a:gd name="textAreaTop" fmla="*/ 167400 h 2571840"/>
              <a:gd name="textAreaBottom" fmla="*/ 24044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0"/>
                  <a:pt x="10800" y="4500"/>
                </a:cubicBezTo>
                <a:lnTo>
                  <a:pt x="10800" y="6300"/>
                </a:lnTo>
                <a:cubicBezTo>
                  <a:pt x="10800" y="8550"/>
                  <a:pt x="5400" y="10800"/>
                  <a:pt x="0" y="10800"/>
                </a:cubicBezTo>
                <a:cubicBezTo>
                  <a:pt x="5400" y="10800"/>
                  <a:pt x="10800" y="13050"/>
                  <a:pt x="10800" y="15300"/>
                </a:cubicBezTo>
                <a:lnTo>
                  <a:pt x="10800" y="17100"/>
                </a:lnTo>
                <a:cubicBezTo>
                  <a:pt x="10800" y="1935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4"/>
              <p:cNvSpPr txBox="1"/>
              <p:nvPr/>
            </p:nvSpPr>
            <p:spPr>
              <a:xfrm>
                <a:off x="2928960" y="3357720"/>
                <a:ext cx="488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Rectangle 6"/>
          <p:cNvSpPr/>
          <p:nvPr/>
        </p:nvSpPr>
        <p:spPr>
          <a:xfrm>
            <a:off x="6286680" y="335988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7"/>
              <p:cNvSpPr txBox="1"/>
              <p:nvPr/>
            </p:nvSpPr>
            <p:spPr>
              <a:xfrm>
                <a:off x="2185920" y="4997520"/>
                <a:ext cx="58284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Rectangle 8"/>
          <p:cNvSpPr/>
          <p:nvPr/>
        </p:nvSpPr>
        <p:spPr>
          <a:xfrm>
            <a:off x="2786040" y="5219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9"/>
              <p:cNvSpPr txBox="1"/>
              <p:nvPr/>
            </p:nvSpPr>
            <p:spPr>
              <a:xfrm>
                <a:off x="3429000" y="5072040"/>
                <a:ext cx="57636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Rectangle 10"/>
          <p:cNvSpPr/>
          <p:nvPr/>
        </p:nvSpPr>
        <p:spPr>
          <a:xfrm>
            <a:off x="4071960" y="529056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1"/>
              <p:cNvSpPr txBox="1"/>
              <p:nvPr/>
            </p:nvSpPr>
            <p:spPr>
              <a:xfrm>
                <a:off x="4786200" y="5000760"/>
                <a:ext cx="581040" cy="16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Reprezentarea pe axa numerelor a unei fracţii ordinar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286760" cy="42861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5"/>
          <p:cNvSpPr/>
          <p:nvPr/>
        </p:nvSpPr>
        <p:spPr>
          <a:xfrm>
            <a:off x="928800" y="128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8a5c2e"/>
                </a:solidFill>
                <a:latin typeface="Franklin Gothic Book"/>
              </a:rPr>
              <a:t>Fracţia – unităţi fracţionare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838080" y="1143000"/>
          <a:ext cx="533520" cy="14479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762120" y="2666880"/>
          <a:ext cx="609480" cy="1401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762120" y="4191120"/>
          <a:ext cx="685800" cy="14014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Rectangle 10"/>
          <p:cNvSpPr/>
          <p:nvPr/>
        </p:nvSpPr>
        <p:spPr>
          <a:xfrm>
            <a:off x="0" y="0"/>
            <a:ext cx="294948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0" y="1447920"/>
          <a:ext cx="6019920" cy="838080"/>
        </p:xfrm>
        <a:graphic>
          <a:graphicData uri="http://schemas.openxmlformats.org/drawingml/2006/table">
            <a:tbl>
              <a:tblPr/>
              <a:tblGrid>
                <a:gridCol w="2949480"/>
                <a:gridCol w="30704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sp>
        <p:nvSpPr>
          <p:cNvPr id="341" name="Rectangle 28"/>
          <p:cNvSpPr/>
          <p:nvPr/>
        </p:nvSpPr>
        <p:spPr>
          <a:xfrm>
            <a:off x="1681200" y="2514600"/>
            <a:ext cx="1965240" cy="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1681200" y="2514600"/>
            <a:ext cx="1965240" cy="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286000" y="2971800"/>
          <a:ext cx="6019920" cy="83808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sp>
        <p:nvSpPr>
          <p:cNvPr id="344" name="Rectangle 53"/>
          <p:cNvSpPr/>
          <p:nvPr/>
        </p:nvSpPr>
        <p:spPr>
          <a:xfrm>
            <a:off x="812880" y="2728800"/>
            <a:ext cx="147312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5"/>
          <p:cNvSpPr/>
          <p:nvPr/>
        </p:nvSpPr>
        <p:spPr>
          <a:xfrm>
            <a:off x="812880" y="2728800"/>
            <a:ext cx="147312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7"/>
          <p:cNvSpPr/>
          <p:nvPr/>
        </p:nvSpPr>
        <p:spPr>
          <a:xfrm>
            <a:off x="812880" y="2728800"/>
            <a:ext cx="147456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286000" y="4495680"/>
          <a:ext cx="6019920" cy="838440"/>
        </p:xfrm>
        <a:graphic>
          <a:graphicData uri="http://schemas.openxmlformats.org/drawingml/2006/table">
            <a:tbl>
              <a:tblPr/>
              <a:tblGrid>
                <a:gridCol w="1503360"/>
                <a:gridCol w="1504800"/>
                <a:gridCol w="1505160"/>
                <a:gridCol w="1506600"/>
              </a:tblGrid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sp>
        <p:nvSpPr>
          <p:cNvPr id="348" name="Rectangle 164"/>
          <p:cNvSpPr/>
          <p:nvPr/>
        </p:nvSpPr>
        <p:spPr>
          <a:xfrm>
            <a:off x="609480" y="57150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Una sau mai multe unităţi fracţionare formează o fracţ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66"/>
          <p:cNvSpPr/>
          <p:nvPr/>
        </p:nvSpPr>
        <p:spPr>
          <a:xfrm rot="16200000">
            <a:off x="3657600" y="990360"/>
            <a:ext cx="152280" cy="289548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7"/>
          <p:cNvSpPr/>
          <p:nvPr/>
        </p:nvSpPr>
        <p:spPr>
          <a:xfrm rot="16200000">
            <a:off x="4191120" y="1980720"/>
            <a:ext cx="152280" cy="3962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68"/>
          <p:cNvSpPr/>
          <p:nvPr/>
        </p:nvSpPr>
        <p:spPr>
          <a:xfrm rot="16200000">
            <a:off x="4457520" y="3238560"/>
            <a:ext cx="152640" cy="4495680"/>
          </a:xfrm>
          <a:custGeom>
            <a:avLst/>
            <a:gdLst>
              <a:gd name="textAreaLeft" fmla="*/ 97560 w 152640"/>
              <a:gd name="textAreaRight" fmla="*/ 153000 w 15264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Fracţia se citeşte astfel :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ro-RO" sz="2000" spc="-1" strike="noStrike">
                <a:solidFill>
                  <a:srgbClr val="000000"/>
                </a:solidFill>
                <a:latin typeface="Perpetua"/>
              </a:rPr>
              <a:t>Două pătrim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ro-RO" sz="2000" spc="-1" strike="noStrike">
                <a:solidFill>
                  <a:srgbClr val="000000"/>
                </a:solidFill>
                <a:latin typeface="Perpetua"/>
              </a:rPr>
              <a:t>Două cincim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ro-RO" sz="2000" spc="-1" strike="noStrike">
                <a:solidFill>
                  <a:srgbClr val="000000"/>
                </a:solidFill>
                <a:latin typeface="Perpetua"/>
              </a:rPr>
              <a:t>Trei pătrim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786040" y="4929120"/>
          <a:ext cx="1714680" cy="517680"/>
        </p:xfrm>
        <a:graphic>
          <a:graphicData uri="http://schemas.openxmlformats.org/drawingml/2006/table">
            <a:tbl>
              <a:tblPr/>
              <a:tblGrid>
                <a:gridCol w="426960"/>
                <a:gridCol w="428760"/>
                <a:gridCol w="428760"/>
                <a:gridCol w="430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643880" y="1500120"/>
          <a:ext cx="1095480" cy="1371600"/>
        </p:xfrm>
        <a:graphic>
          <a:graphicData uri="http://schemas.openxmlformats.org/drawingml/2006/table">
            <a:tbl>
              <a:tblPr/>
              <a:tblGrid>
                <a:gridCol w="571320"/>
                <a:gridCol w="524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5" descr="4sferturi"/>
          <p:cNvPicPr/>
          <p:nvPr/>
        </p:nvPicPr>
        <p:blipFill>
          <a:blip r:embed="rId6"/>
          <a:stretch/>
        </p:blipFill>
        <p:spPr>
          <a:xfrm>
            <a:off x="3000240" y="1577880"/>
            <a:ext cx="1214640" cy="1177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2 cincimi"/>
          <p:cNvPicPr/>
          <p:nvPr/>
        </p:nvPicPr>
        <p:blipFill>
          <a:blip r:embed="rId7"/>
          <a:stretch/>
        </p:blipFill>
        <p:spPr>
          <a:xfrm>
            <a:off x="3000240" y="3017880"/>
            <a:ext cx="1428840" cy="1330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0"/>
          <p:cNvSpPr/>
          <p:nvPr/>
        </p:nvSpPr>
        <p:spPr>
          <a:xfrm>
            <a:off x="4800600" y="1428840"/>
            <a:ext cx="32716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inci zec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pt do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87" descr="doime"/>
          <p:cNvPicPr/>
          <p:nvPr/>
        </p:nvPicPr>
        <p:blipFill>
          <a:blip r:embed="rId8"/>
          <a:stretch/>
        </p:blipFill>
        <p:spPr>
          <a:xfrm>
            <a:off x="5143680" y="5572080"/>
            <a:ext cx="76176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0" name="Picture 88" descr="doime"/>
          <p:cNvPicPr/>
          <p:nvPr/>
        </p:nvPicPr>
        <p:blipFill>
          <a:blip r:embed="rId9"/>
          <a:stretch/>
        </p:blipFill>
        <p:spPr>
          <a:xfrm>
            <a:off x="6072120" y="5572080"/>
            <a:ext cx="76212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1" name="Picture 89" descr="doime"/>
          <p:cNvPicPr/>
          <p:nvPr/>
        </p:nvPicPr>
        <p:blipFill>
          <a:blip r:embed="rId10"/>
          <a:stretch/>
        </p:blipFill>
        <p:spPr>
          <a:xfrm>
            <a:off x="6929280" y="5572080"/>
            <a:ext cx="76212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2" name="Picture 90" descr="doime"/>
          <p:cNvPicPr/>
          <p:nvPr/>
        </p:nvPicPr>
        <p:blipFill>
          <a:blip r:embed="rId11"/>
          <a:stretch/>
        </p:blipFill>
        <p:spPr>
          <a:xfrm>
            <a:off x="7786800" y="5572080"/>
            <a:ext cx="76176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3" name="Picture 91" descr="doime"/>
          <p:cNvPicPr/>
          <p:nvPr/>
        </p:nvPicPr>
        <p:blipFill>
          <a:blip r:embed="rId12"/>
          <a:stretch/>
        </p:blipFill>
        <p:spPr>
          <a:xfrm>
            <a:off x="5143680" y="5072040"/>
            <a:ext cx="76176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4" name="Picture 93" descr="doime"/>
          <p:cNvPicPr/>
          <p:nvPr/>
        </p:nvPicPr>
        <p:blipFill>
          <a:blip r:embed="rId13"/>
          <a:stretch/>
        </p:blipFill>
        <p:spPr>
          <a:xfrm>
            <a:off x="6072120" y="5072040"/>
            <a:ext cx="76212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5" name="Picture 94" descr="doime"/>
          <p:cNvPicPr/>
          <p:nvPr/>
        </p:nvPicPr>
        <p:blipFill>
          <a:blip r:embed="rId14"/>
          <a:stretch/>
        </p:blipFill>
        <p:spPr>
          <a:xfrm>
            <a:off x="6929280" y="5072040"/>
            <a:ext cx="76212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6" name="Picture 95" descr="doime"/>
          <p:cNvPicPr/>
          <p:nvPr/>
        </p:nvPicPr>
        <p:blipFill>
          <a:blip r:embed="rId15"/>
          <a:stretch/>
        </p:blipFill>
        <p:spPr>
          <a:xfrm>
            <a:off x="7786800" y="5072040"/>
            <a:ext cx="76176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graphicFrame>
        <p:nvGraphicFramePr>
          <p:cNvPr id="367" name=""/>
          <p:cNvGraphicFramePr/>
          <p:nvPr/>
        </p:nvGraphicFramePr>
        <p:xfrm>
          <a:off x="457200" y="1523880"/>
          <a:ext cx="533520" cy="140184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33520" y="2971800"/>
          <a:ext cx="533160" cy="140184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71680" y="4357800"/>
          <a:ext cx="533160" cy="14014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4929120" y="1643040"/>
          <a:ext cx="714600" cy="1158840"/>
        </p:xfrm>
        <a:graphic>
          <a:graphicData uri="http://schemas.openxmlformats.org/drawingml/2006/table">
            <a:tbl>
              <a:tblPr/>
              <a:tblGrid>
                <a:gridCol w="714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072040" y="3714840"/>
          <a:ext cx="685800" cy="1158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iuliana-fractii.wikispaces.com/file/view/fractii.jpg"/>
          <p:cNvPicPr/>
          <p:nvPr/>
        </p:nvPicPr>
        <p:blipFill>
          <a:blip r:embed="rId1"/>
          <a:stretch/>
        </p:blipFill>
        <p:spPr>
          <a:xfrm>
            <a:off x="785880" y="642960"/>
            <a:ext cx="7715160" cy="5500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14280" y="1714680"/>
          <a:ext cx="5897880" cy="1098360"/>
        </p:xfrm>
        <a:graphic>
          <a:graphicData uri="http://schemas.openxmlformats.org/drawingml/2006/table">
            <a:tbl>
              <a:tblPr/>
              <a:tblGrid>
                <a:gridCol w="1965600"/>
                <a:gridCol w="1966680"/>
                <a:gridCol w="1965600"/>
              </a:tblGrid>
              <a:tr h="109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"/>
              <p:cNvSpPr txBox="1"/>
              <p:nvPr/>
            </p:nvSpPr>
            <p:spPr>
              <a:xfrm>
                <a:off x="3071880" y="3357720"/>
                <a:ext cx="6429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5929200" y="3286080"/>
                <a:ext cx="6429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Rectangle 4"/>
          <p:cNvSpPr/>
          <p:nvPr/>
        </p:nvSpPr>
        <p:spPr>
          <a:xfrm>
            <a:off x="6572160" y="374868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00040" y="531216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le care sunt mai mici decât unitatea (întregul) se numesc </a:t>
            </a:r>
            <a:r>
              <a:rPr b="1" i="1" lang="ro-RO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fracţii subunitare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 rot="5400000">
            <a:off x="4028760" y="-1528560"/>
            <a:ext cx="343080" cy="5829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151920 h 5829120"/>
              <a:gd name="textAreaBottom" fmla="*/ 5677200 h 582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 rot="16200000">
            <a:off x="3022560" y="1263240"/>
            <a:ext cx="343080" cy="3816360"/>
          </a:xfrm>
          <a:custGeom>
            <a:avLst/>
            <a:gdLst>
              <a:gd name="textAreaLeft" fmla="*/ 219240 w 343080"/>
              <a:gd name="textAreaRight" fmla="*/ 343440 w 3430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017080" y="-8100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 SUBUNIT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4003200" y="7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2513160" y="485784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UMĂRĂTORUL &l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o-RO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UMITO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2"/>
          <p:cNvSpPr/>
          <p:nvPr/>
        </p:nvSpPr>
        <p:spPr>
          <a:xfrm>
            <a:off x="1954080" y="121680"/>
            <a:ext cx="52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 ECHIUNIT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643040" y="1643040"/>
          <a:ext cx="5896080" cy="803160"/>
        </p:xfrm>
        <a:graphic>
          <a:graphicData uri="http://schemas.openxmlformats.org/drawingml/2006/table">
            <a:tbl>
              <a:tblPr/>
              <a:tblGrid>
                <a:gridCol w="1473120"/>
                <a:gridCol w="1474920"/>
                <a:gridCol w="1474920"/>
                <a:gridCol w="1473120"/>
              </a:tblGrid>
              <a:tr h="8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386" name="AutoShape 13"/>
          <p:cNvSpPr/>
          <p:nvPr/>
        </p:nvSpPr>
        <p:spPr>
          <a:xfrm rot="5400000">
            <a:off x="4371120" y="-1656360"/>
            <a:ext cx="345960" cy="5945040"/>
          </a:xfrm>
          <a:custGeom>
            <a:avLst/>
            <a:gdLst>
              <a:gd name="textAreaLeft" fmla="*/ 221040 w 345960"/>
              <a:gd name="textAreaRight" fmla="*/ 346320 w 345960"/>
              <a:gd name="textAreaTop" fmla="*/ 154800 h 5945040"/>
              <a:gd name="textAreaBottom" fmla="*/ 5790240 h 594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4"/>
          <p:cNvSpPr/>
          <p:nvPr/>
        </p:nvSpPr>
        <p:spPr>
          <a:xfrm rot="16200000">
            <a:off x="4314960" y="-385560"/>
            <a:ext cx="457200" cy="5943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4800 h 5943600"/>
              <a:gd name="textAreaBottom" fmla="*/ 5788800 h 594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5"/>
              <p:cNvSpPr txBox="1"/>
              <p:nvPr/>
            </p:nvSpPr>
            <p:spPr>
              <a:xfrm>
                <a:off x="4286160" y="2643120"/>
                <a:ext cx="5637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7"/>
          <p:cNvSpPr/>
          <p:nvPr/>
        </p:nvSpPr>
        <p:spPr>
          <a:xfrm>
            <a:off x="6643800" y="307404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8"/>
              <p:cNvSpPr txBox="1"/>
              <p:nvPr/>
            </p:nvSpPr>
            <p:spPr>
              <a:xfrm>
                <a:off x="6143760" y="2786040"/>
                <a:ext cx="5000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Rectangle 19"/>
          <p:cNvSpPr/>
          <p:nvPr/>
        </p:nvSpPr>
        <p:spPr>
          <a:xfrm>
            <a:off x="571680" y="4650480"/>
            <a:ext cx="72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le care sunt egale cu unitatea se numesc</a:t>
            </a:r>
            <a:r>
              <a:rPr b="1" i="1" lang="ro-RO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ro-RO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fracţii echiunitare</a:t>
            </a: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360320" y="71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2357280" y="42148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UMĂRĂTORUL =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o-RO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UMITO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1556640" y="121680"/>
            <a:ext cx="57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 SUPRAUNIT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214280" y="1500120"/>
          <a:ext cx="4321440" cy="1130400"/>
        </p:xfrm>
        <a:graphic>
          <a:graphicData uri="http://schemas.openxmlformats.org/drawingml/2006/table">
            <a:tbl>
              <a:tblPr/>
              <a:tblGrid>
                <a:gridCol w="1440000"/>
                <a:gridCol w="1440000"/>
                <a:gridCol w="1441440"/>
              </a:tblGrid>
              <a:tr h="1130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397" name="Rectangle 2"/>
          <p:cNvSpPr/>
          <p:nvPr/>
        </p:nvSpPr>
        <p:spPr>
          <a:xfrm>
            <a:off x="5857920" y="1500120"/>
            <a:ext cx="1312920" cy="11574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"/>
          <p:cNvSpPr/>
          <p:nvPr/>
        </p:nvSpPr>
        <p:spPr>
          <a:xfrm rot="5400000">
            <a:off x="3156840" y="-942840"/>
            <a:ext cx="457200" cy="4343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4"/>
          <p:cNvSpPr/>
          <p:nvPr/>
        </p:nvSpPr>
        <p:spPr>
          <a:xfrm rot="16200000">
            <a:off x="3957480" y="-28080"/>
            <a:ext cx="457200" cy="5943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4800 h 5943600"/>
              <a:gd name="textAreaBottom" fmla="*/ 5788800 h 594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3714840" y="3143160"/>
                <a:ext cx="4284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6072120" y="3214800"/>
                <a:ext cx="4287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8"/>
          <p:cNvSpPr/>
          <p:nvPr/>
        </p:nvSpPr>
        <p:spPr>
          <a:xfrm>
            <a:off x="6500880" y="343116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357120" y="4300920"/>
            <a:ext cx="7858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NUMĂRĂTORUL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o-RO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NUMITOR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le mai mari decât întregul (unitatea) se numesc </a:t>
            </a:r>
            <a:r>
              <a:rPr b="1" i="1" lang="ro-RO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fracţii supraunitare</a:t>
            </a: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3288960" y="71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a5c2e"/>
                </a:solidFill>
                <a:latin typeface="Franklin Gothic Book"/>
              </a:rPr>
              <a:t>Fracţii egal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2712960" y="353700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6934320" y="304920"/>
                <a:ext cx="4712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Rectangle 5"/>
          <p:cNvSpPr/>
          <p:nvPr/>
        </p:nvSpPr>
        <p:spPr>
          <a:xfrm>
            <a:off x="1622520" y="2733840"/>
            <a:ext cx="294948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609480" y="1600200"/>
                <a:ext cx="6192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1" name=""/>
          <p:cNvGraphicFramePr/>
          <p:nvPr/>
        </p:nvGraphicFramePr>
        <p:xfrm>
          <a:off x="1752480" y="1676520"/>
          <a:ext cx="5899320" cy="838080"/>
        </p:xfrm>
        <a:graphic>
          <a:graphicData uri="http://schemas.openxmlformats.org/drawingml/2006/table">
            <a:tbl>
              <a:tblPr/>
              <a:tblGrid>
                <a:gridCol w="2949840"/>
                <a:gridCol w="294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1"/>
          <p:cNvSpPr/>
          <p:nvPr/>
        </p:nvSpPr>
        <p:spPr>
          <a:xfrm>
            <a:off x="812880" y="2589120"/>
            <a:ext cx="147312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0"/>
          <p:cNvSpPr/>
          <p:nvPr/>
        </p:nvSpPr>
        <p:spPr>
          <a:xfrm rot="16200000">
            <a:off x="3066840" y="1276200"/>
            <a:ext cx="342720" cy="2971800"/>
          </a:xfrm>
          <a:custGeom>
            <a:avLst/>
            <a:gdLst>
              <a:gd name="textAreaLeft" fmla="*/ 218880 w 342720"/>
              <a:gd name="textAreaRight" fmla="*/ 343080 w 3427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52480" y="3276720"/>
          <a:ext cx="5896080" cy="91440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4560"/>
                <a:gridCol w="14749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Rectangle 48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685800" y="3505320"/>
                <a:ext cx="542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AutoShape 52"/>
          <p:cNvSpPr/>
          <p:nvPr/>
        </p:nvSpPr>
        <p:spPr>
          <a:xfrm rot="16200000">
            <a:off x="3066840" y="2952360"/>
            <a:ext cx="343080" cy="2971800"/>
          </a:xfrm>
          <a:custGeom>
            <a:avLst/>
            <a:gdLst>
              <a:gd name="textAreaLeft" fmla="*/ 219240 w 343080"/>
              <a:gd name="textAreaRight" fmla="*/ 343440 w 3430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3"/>
          <p:cNvSpPr/>
          <p:nvPr/>
        </p:nvSpPr>
        <p:spPr>
          <a:xfrm>
            <a:off x="-204120" y="5181120"/>
            <a:ext cx="83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Fracţiile care reprezintă aceeaşi parte din într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(unitate) se numesc fracţii eg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5638680" y="228600"/>
                <a:ext cx="6159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66"/>
          <p:cNvSpPr/>
          <p:nvPr/>
        </p:nvSpPr>
        <p:spPr>
          <a:xfrm>
            <a:off x="0" y="81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7"/>
          <p:cNvSpPr/>
          <p:nvPr/>
        </p:nvSpPr>
        <p:spPr>
          <a:xfrm>
            <a:off x="1800" y="27770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8"/>
          <p:cNvSpPr/>
          <p:nvPr/>
        </p:nvSpPr>
        <p:spPr>
          <a:xfrm>
            <a:off x="0" y="5814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9"/>
          <p:cNvSpPr/>
          <p:nvPr/>
        </p:nvSpPr>
        <p:spPr>
          <a:xfrm>
            <a:off x="6248520" y="533520"/>
            <a:ext cx="68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7:16:51Z</dcterms:created>
  <dc:creator>User</dc:creator>
  <dc:description/>
  <dc:language>en-US</dc:language>
  <cp:lastModifiedBy>User</cp:lastModifiedBy>
  <dcterms:modified xsi:type="dcterms:W3CDTF">2011-01-17T18:36:43Z</dcterms:modified>
  <cp:revision>31</cp:revision>
  <dc:subject/>
  <dc:title>Adunarea fracţiilor care  au acelaşi numitor</dc:title>
</cp:coreProperties>
</file>